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D736-5C9C-4564-ABFB-FE9D974DE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B5E-72DC-4153-BBF3-4147C1A99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EE1-03A0-4986-A3F1-A049F14C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87E-D159-499A-B83C-7E50FA38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095-645F-46CD-9865-83790279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FAC-4573-4A3F-8406-284FDAE8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173-8251-4828-813A-DDBCD47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1D1-D894-4232-BB71-165861A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EB7-78E1-4DDA-B555-D7B5EF63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7CD-2397-4F35-B3AB-5D04CBD5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069-F4D2-4923-9FCF-7916C3E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75C-8AB7-4206-B5BA-9C19D54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5D7-CE1F-4578-BB48-4D3708D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362-8EB2-47EF-AF1C-7032EFA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B98B-053D-42D4-9FBA-01C3CDB8B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C3E-4DB0-42F8-9136-B0D4D07F9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сентябр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0A4A-D44F-442C-B968-0A73D1FBE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сентябр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11880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1188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8-31T10:09:23Z</dcterms:modified>
  <cp:revision>142</cp:revision>
  <dc:subject/>
  <dc:title>Презентация PowerPoint</dc:title>
</cp:coreProperties>
</file>